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806-9142-4351-8C32-DD46AFA5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2BF-77C6-4729-8EBB-55FA5A4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A7C-3DBF-45AA-B919-DFCF3893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2E3-6A60-4D74-A966-B92727A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041-C75E-47EC-B640-9AC5079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041-FBE1-4921-90C8-4D41750E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6799-5910-4610-ABE1-35F73213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C3C9-AFBF-413C-94F8-175C715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F930-C7CD-4F7A-84A5-6B116FCD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DCA6-A727-434F-B0BA-D8D3FAF5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A72C-BFE5-4F5E-B17B-601DFC0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156-CEF4-4CC6-B4B7-512E0BE5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16E6-742E-473C-BD67-8E8C3C8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F150-D8A2-4D99-BE76-1DC279A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620-6855-4AF6-8B21-CE4AEF5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4BAD-1351-4FF9-9CAA-CD474E63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9502-2766-496F-B98E-98978A75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6DAE-0365-4E97-9423-8384931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65D6-BCAD-427C-8A67-95BABE0B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31BE-C225-40C7-A63A-82C7BA9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4A24-96F6-4310-B0EA-1FC9F2E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B13D-407C-4473-B28C-2F49A21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03B-CDD6-4917-9710-CC93A624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7550-4FD8-436C-B72B-926A4F66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D7B4-943A-4DAE-85FB-3B2FDF2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DF27-0E7D-411A-8FF5-6CB67B2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EA9F-4F71-4AF7-ABFC-34668BC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2F1F-A36E-4747-84C4-E597733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6D1B-3D65-49DF-A829-E70D15E6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B462-1B96-4C06-B683-337F376F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8DCC-061F-44AF-986E-421F8731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E633-1834-4EA5-91F0-3FB65611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12AC-45F0-415B-AE20-4673661E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BE7-7E34-4D54-8FC6-29DBBB0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A90C-B942-4046-BBB8-BC04735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2233-4E66-41B1-A703-C273853F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005B-C4E8-4D51-8526-FBF1B03D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AC58-A09E-4944-B259-A13CC06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CDB6-7A1C-4CFB-8383-5EA5566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BE24-EE7A-48D5-82AB-13A907B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CDDB-E7DC-4240-B8F0-29A533F6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6F5B-2ED6-4E43-8265-21987248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2F73-0973-4E01-A01B-9418D5D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07F0-F873-4C48-9F89-4721CE00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8D0-CE9D-4F69-84B6-99DCAFB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AAB1-6D20-4E09-9397-063D214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AD5D-5795-43BE-BB34-9DA1224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F90C-BEB5-416A-8478-4A2EB2C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BD97-35A6-4E18-80DA-F8857B4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AF18-7746-4E89-AF43-C3867AF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D0C5-3A2C-4D3F-807D-10E1A21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5D8B-358E-47EA-AC05-00CDA8A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DC3A-B8AA-4E0E-8CFD-9BEAAF1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C475-8B0D-4B85-AC96-E69B205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1BC89-69E0-4215-9EA7-52B311C4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5D9-E183-487A-ADD8-C3505B29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B85E-91CA-4506-8070-059D8F64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BCF8-A0BA-409C-8E38-556BE729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42DF-CBAD-4051-8F65-C2AE4653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362EC-FBE3-4D15-B367-74A79B5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7719-4E27-4467-9B4C-F333CC63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41B9-B084-4F42-95E6-4C151D50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0F084-5296-4AA2-8955-CAAAF6C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B256-2822-41A1-8074-C91503F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1396-02CF-4B4B-AB87-41634C8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F788F-6637-4D59-906D-9312989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501-F7DE-4374-AB64-8E4DCF8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561C-5FE0-492A-867C-DED2A14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706E-B602-44DB-BCE1-A357DE6C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2F13-9925-4930-8FAD-0B11227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786-7FEE-4CF8-B7D5-147AF03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F58-7C75-4AB1-9E88-824D8E1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6B45-58ED-44C2-ACC6-CB3BB768081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547-D0EF-4F9D-81A3-3F07C9DA3A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A1A-38DE-4397-84B6-299168085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7BBD-640A-4FD7-96D1-04831791AE6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366-2782-4D86-A07D-CB46DFA82F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19C-76FD-43B3-B26A-BE405F68176D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Тема исследования:</a:t>
            </a:r>
            <a:br>
              <a:rPr sz="4400"/>
            </a:b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Двоичная система счисления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2640" y="3857400"/>
            <a:ext cx="6041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ванов И., Петров П. 9 класс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000160" y="5072040"/>
            <a:ext cx="446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алышев В.В., учитель математики-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2a00"/>
                </a:solidFill>
                <a:latin typeface="Times New Roman"/>
              </a:rPr>
              <a:t>Как компьютер работает с числам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2" name="Picture 5" descr="Картинка 1 из 30609"/>
          <p:cNvPicPr/>
          <p:nvPr/>
        </p:nvPicPr>
        <p:blipFill>
          <a:blip r:embed="rId1"/>
          <a:stretch/>
        </p:blipFill>
        <p:spPr>
          <a:xfrm>
            <a:off x="1285920" y="250020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и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, как числа представлены в компьютере и как компьютер с ними работает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5" name="Picture 5" descr="Картинка 7 из 30609"/>
          <p:cNvPicPr/>
          <p:nvPr/>
        </p:nvPicPr>
        <p:blipFill>
          <a:blip r:embed="rId1"/>
          <a:stretch/>
        </p:blipFill>
        <p:spPr>
          <a:xfrm>
            <a:off x="3500280" y="3214800"/>
            <a:ext cx="4214880" cy="31636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Ход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астие в игре Ним и осмысление её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комство с двоичной системой счисления, арифметическими операциями в двоичной системе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учение по учебнику Семакин Информатика и ИКТ 9 класс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 advTm="3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числа в компьютере представлены в двоичной форме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0" name="Picture 5" descr="Картинка 1 из 2481"/>
          <p:cNvPicPr/>
          <p:nvPr/>
        </p:nvPicPr>
        <p:blipFill>
          <a:blip r:embed="rId1"/>
          <a:stretch/>
        </p:blipFill>
        <p:spPr>
          <a:xfrm>
            <a:off x="3714840" y="25002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акин Информатика и ИКТ 9 клас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hpi-iip.mipk.kharkiv.edu/library/datastr/book_sod/structura/chapter1.htm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spu.tula.ru/ivt/old_site/umr/timoi/solovieva/SS/dvoich_s.htm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ic.academic.ru/dic.nsf/ruwiki/5444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3" name="Picture 5" descr="Картинка 3 из 4030390"/>
          <p:cNvPicPr/>
          <p:nvPr/>
        </p:nvPicPr>
        <p:blipFill>
          <a:blip r:embed="rId1"/>
          <a:stretch/>
        </p:blipFill>
        <p:spPr>
          <a:xfrm>
            <a:off x="2714760" y="4214880"/>
            <a:ext cx="2760480" cy="20718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26529</cp:lastModifiedBy>
  <dcterms:modified xsi:type="dcterms:W3CDTF">2010-05-24T10:23:01Z</dcterms:modified>
  <cp:revision>64</cp:revision>
  <dc:subject/>
  <dc:title>Слайд 1</dc:title>
</cp:coreProperties>
</file>